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AE86-1880-4789-B64F-12EB42DB6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3F8D-16A7-4BC8-8FE7-3ECDEAE33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F023-B3B3-4207-AC14-15430A6E9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CB70-88A0-4E77-B9F9-CCAC5C5A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754-20E5-4C6A-BBA6-C47B64B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B4D-11A1-4CC5-AE78-75969D65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150-4F3C-4F72-A175-3CFF52DD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CAF-1EC5-4768-B121-DB113F03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A46-4E5F-401D-B4E5-ADF5C13C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9A0-B49C-4D8A-B89A-34FA12BC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C203-C01A-453C-AD59-14C60EFE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414-AABB-485F-B849-87010931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320-1118-40DA-A093-96FC1B1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42D-8735-4253-9AED-4C81C7E9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348-DBAD-433C-A592-0AFBEE75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852A-1876-4B3E-B5A7-BC03259EC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F8B5-6822-4E36-8A71-F0AAEDC6E5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eleration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dot=-180+360*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Acceleration(deg/s2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1446120" y="2681280"/>
                <a:ext cx="17146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Picture 6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29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HW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 single link robot with a rotary joint is at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1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rees. It is desired to move the joint in a smooth manner to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7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3 sec. Find the coefficeints of a cubic to bring the manipulator to rest at the go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86000" y="39625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617400" y="4724280"/>
                <a:ext cx="6891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is to take the end point of the RR robot from (0.5, 0.0, 0.0) to (0.5, 0.3, 0.0) in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me in a period of 5 seconds.  Assume the robot is at rest at the starting point and should come to come to a complete stop at the fin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Given the 6 constraints: (n=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990720" y="2362320"/>
                <a:ext cx="6629400" cy="25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initial position , velocity and acceleratio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, velocity and accelera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Quint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 coefficients (6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286000" y="3583080"/>
                <a:ext cx="3200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1994040" y="4724280"/>
                <a:ext cx="37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033640" y="5638680"/>
                <a:ext cx="3352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aut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1143000" y="2743200"/>
                <a:ext cx="4419720" cy="28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914400" y="2209680"/>
                <a:ext cx="6524640" cy="39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779400" y="2435400"/>
                <a:ext cx="6794640" cy="34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inear segments with parabolic b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 want the middle part of the trajectory to have a constant velocity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up to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se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untitled"/>
          <p:cNvPicPr/>
          <p:nvPr/>
        </p:nvPicPr>
        <p:blipFill>
          <a:blip r:embed="rId1"/>
          <a:stretch/>
        </p:blipFill>
        <p:spPr>
          <a:xfrm>
            <a:off x="3962520" y="2819520"/>
            <a:ext cx="48196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rajectory is a function of tim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) s.t.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d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: time taken to execute the traj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int to point motion: plan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jectory from the initial configura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final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In some cases, there may be constraints (for example: if the robot must begin and end with zero velo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the trajectory of polynomial of degre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if you hav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(1):Given the 4 constraints: (n=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295280" y="3657600"/>
                <a:ext cx="472464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the initial position and velocity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and velocit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Cub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 coefficients (4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2286000" y="35053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7"/>
              <p:cNvSpPr txBox="1"/>
              <p:nvPr/>
            </p:nvSpPr>
            <p:spPr>
              <a:xfrm>
                <a:off x="2317680" y="4952880"/>
                <a:ext cx="2373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2895480" y="2133720"/>
                <a:ext cx="18288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157400" y="4800600"/>
                <a:ext cx="51116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2057400" y="4114800"/>
                <a:ext cx="2590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1295280" y="2743200"/>
                <a:ext cx="49006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four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19320" y="2819520"/>
                <a:ext cx="4510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990720" y="3200400"/>
                <a:ext cx="172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33520" y="2286000"/>
                <a:ext cx="7059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3962520" y="3200400"/>
                <a:ext cx="1828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7"/>
              <p:cNvSpPr txBox="1"/>
              <p:nvPr/>
            </p:nvSpPr>
            <p:spPr>
              <a:xfrm>
                <a:off x="914400" y="4343400"/>
                <a:ext cx="2158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1143000" y="4876920"/>
                <a:ext cx="31575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=10-90*t^2+60*t^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'Angle(deg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447920" y="2362320"/>
                <a:ext cx="20574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0" name="Picture 5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435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elocity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ot=-180*t+180*t^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velocity(deg/s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1527120" y="2362320"/>
                <a:ext cx="1898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4" name="Picture 8" descr="untitled"/>
          <p:cNvPicPr/>
          <p:nvPr/>
        </p:nvPicPr>
        <p:blipFill>
          <a:blip r:embed="rId1"/>
          <a:stretch/>
        </p:blipFill>
        <p:spPr>
          <a:xfrm>
            <a:off x="3962520" y="2666880"/>
            <a:ext cx="45576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</cp:lastModifiedBy>
  <dcterms:modified xsi:type="dcterms:W3CDTF">2008-04-13T00:17:2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